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9F9-1522-4B5F-A272-7C89643F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B89-0B0A-4D5F-80F2-B2953CA5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DBE-C031-43D8-A384-EF82483B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811-4DD6-4F0F-AF0F-F8AF10AE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F11-01B3-4CD8-9227-D142F047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29D-41B3-4AF9-8211-812607A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F52-5B3F-4E3D-8147-E2F219A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A91D-F8C5-467D-9E91-2CCF4000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ED58-A385-4584-B24C-0600CB33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E35-65D1-43E0-8F36-85881B5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750B-D80C-4EFF-94EB-E6A05384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85B-02E0-48E0-82D1-9F8EA317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6B5D-421D-4804-A0EC-8C2B086A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9BC1-8C76-4AE1-91DA-2AFF62C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5043-FBB1-44FF-AB86-01B6B2B4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3CC5-F7CB-4A16-8D11-3B2FA06B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E31C-5A16-47D0-9906-79568BAF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EA0-9665-467A-849B-3C351ACC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CC7-7590-41B5-9F29-5E942A13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545-5831-4A87-829F-B44982DB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80F-D3E9-452D-B64F-9AD4A0DB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125-2D55-46FA-8A71-1FF97BBE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501-E6FF-49A1-B768-391AD411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DF5-D4A9-4343-86DE-3BE438FB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6E6-1979-476C-92A2-41193DAFBEC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AC27-0967-4DED-BEC1-1FE1D0D735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reaties in Canad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ackgrou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rinciples of Interpretatio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treaty represents an exchange of solemn promises between the Crown and Indian nations and the nature of this agreement is sac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mbiguities and doubtful expressions in (historic) treaties must be resolved peacefully and in court of law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xtinguishment of treaty rights to be proven by Crown and justified through the legal process- the judicial syst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400" y="1600200"/>
            <a:ext cx="8896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eaties have been defined as formal agreements between states that often consider land, property, and public welfare between those states, and the citizens of those states, for perpetu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Treaty is a formal agreement between two parties. The Numbered Treaties, which cover all of Saskatchewan, are formal agreements that created a relationship between the Crown and First Nations. As a result, each party has certain expectations and obligations, both explicit and implic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Comic Sans MS"/>
              </a:rPr>
              <a:t>Are treaties more than legal contract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Comic Sans MS"/>
              </a:rPr>
              <a:t>British common law and traditional perceptions of order would demand that these rights and benefits be guaranteed by the British Crown through the Canadian govern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Comic Sans MS"/>
              </a:rPr>
              <a:t>A source of tension between the First Nations and the Federal government stems from conflicting beliefs about the legal/moral obligations of these treat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Comic Sans MS"/>
              </a:rPr>
              <a:t>Most Indian bands and organizations believe that both the spirit/intent and the literal interpretation of treaties are binding on the Bands and the Crow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8480" y="27432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60948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eace and Friendship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62720" cy="547992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45720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4572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umbered Treaties 1-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87680" y="1454040"/>
            <a:ext cx="5779800" cy="5403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05920" y="59436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17806" y="12345"/>
                </a:lnTo>
                <a:lnTo>
                  <a:pt x="3794" y="1935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umbered Treaties 6-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03840" cy="5575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077320" y="5791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umbered Treaties 8-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48160" cy="545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304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James Bay and Northern Quebe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621320" cy="558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unavut Agre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5616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4100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do treaties represe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496960"/>
            <a:ext cx="8896320" cy="25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egotiated rights between then Crown (Federal Government) and First Nations peop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t is a “trust relationship” that exists between the Crown and First Nation peop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ach group trusting the other will fulfill their obligations as stated in the Trea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29160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ouglas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1243080"/>
            <a:ext cx="7391520" cy="5691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58672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binson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650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5029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ypes of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2209680"/>
            <a:ext cx="62658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eace and Friendship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istoric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ternational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odern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 Sans MS"/>
              </a:rPr>
              <a:t>Peace and Friendship Treati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igned during the 17</a:t>
            </a:r>
            <a:r>
              <a:rPr b="0" lang="en-US" sz="2800" spc="-1" strike="noStrike" baseline="30000">
                <a:solidFill>
                  <a:srgbClr val="ffff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and 18th centu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uarantee of hunting and fishing rights in return for peaceful relationships and military allia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o land cession, but still vali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Peace and Friendship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Comic Sans MS"/>
              </a:rPr>
              <a:t>Source: All maps: </a:t>
            </a:r>
            <a:r>
              <a:rPr b="0" i="1" lang="en-US" sz="1400" spc="-1" strike="noStrike">
                <a:solidFill>
                  <a:srgbClr val="ffffcc"/>
                </a:solidFill>
                <a:latin typeface="Times New Roman"/>
              </a:rPr>
              <a:t>http://atlas.nrcan.gc.ca/site/english/maps/historical#indiantreati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 Sans MS"/>
              </a:rPr>
              <a:t>Historic Treatie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Robinson Treaties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(1850) Lake Huron and Lake Superior ar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Numbered Treati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(1871 – 1921) – 11 in total (Across the prairies and Nor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ouglas Treaties (Vancouver Islan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848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ternational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680" y="20365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ay Treaty – 1794 treaty between Great Britai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nd U.S.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Usually associated with duty exemption for First Nations crossing existing Canada/US borde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ternational Covenant on Civil, Cultural and Political Righ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UN agreement between nation stat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Modern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ames Bay and Northern Quebec Agreement, 197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unavut Agreement, 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ogrib Claim,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haracteristics of a Valid Trea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344680"/>
            <a:ext cx="8896320" cy="34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ties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Crown/Aboriginal 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gency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Whoever signs the treaty must have authority to bind the pa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ntion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Parties must intend to create legally binding obliga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ation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Obligations by both sides to fulfi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mality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A measure of solemnity (seriousness) to the signing and int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reaty Interpretation in Litigation (Court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421000"/>
            <a:ext cx="8896320" cy="32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f written terms unclear, minutes from treaty negotiations will be conside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Oral record of the treaty will be given equivalent weight  for interpretation purpo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eaties to be interpreted in such a manner that upholds the honor of the Cr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4:33:46Z</dcterms:created>
  <dc:creator>Faculty of Law</dc:creator>
  <dc:description/>
  <dc:language>en-US</dc:language>
  <cp:lastModifiedBy>Roland Bear</cp:lastModifiedBy>
  <dcterms:modified xsi:type="dcterms:W3CDTF">2006-05-18T17:59:19Z</dcterms:modified>
  <cp:revision>13</cp:revision>
  <dc:subject/>
  <dc:title>Treaty Rights in Canada</dc:title>
</cp:coreProperties>
</file>